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9BB-F97A-408F-8B44-F87725A0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D3B-6CA0-4CE6-A060-A7B59C97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A52-B40C-4BAE-BDD7-624DFCB7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EBC-5162-4E9D-BE6A-83CF2B47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FF89-FFD8-492A-B1E4-E179FCD9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031A-B3A4-4C0F-AECA-35E87AC6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EEC7-42EA-4B52-BAF9-C0A70C1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EE76-525C-403B-9958-011A432B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3961-A1C6-4625-BDC0-8791C4AD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4342-C307-4A05-ACFA-030725DF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E186-9419-46E5-9554-A32F84C0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831-3CE2-4D17-AD29-4B2BC6F5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E19D-3E8A-4346-B261-0D2954C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BC0F-8733-4DA1-A87E-0336310E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13FD-1BBA-4111-8E6A-726C4346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6784-69F8-4C64-89E5-04F976C2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043-2361-4D40-81C7-39105204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D90-C2AB-4E99-A193-2B6444F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D99-B7F7-4097-882A-F719EFC4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9E6-4AAD-4D94-942A-1CCE607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3E3-7089-4307-865E-38BD1A32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09B-1E70-4920-B9ED-EE33AF7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079-FF6F-4DDC-81AF-3F705837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973-26F9-4E8C-BE5D-5C15FA2D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8C8D-E60A-4E13-989F-CFA7D4278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6042-E0B9-476C-9894-3324F39FE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cademic Article Writing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r. Edward Robec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ting Faculty Member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i Kebangsaan Malaysia (UK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he Concept of a Knowledge Clai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an you say now that you could not say befo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what basis can you justify the clai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soned Arg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inions/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ow could you justif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e-to-face teaching is more effective than online instructi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nstructional unit includes methods that have all been shown be effective, but contradict each other in practic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 much educational research is based on opinion rather than on evidenc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oncept of Contrib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hat is the contributi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irical knowledge cla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of an inte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etical foun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osophical ex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ing a new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ologica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ditorial Process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(from </a:t>
            </a: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Educational Researcher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knowledged by the editor upon receip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lly reviewed by the Co-Edito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et the scope of journal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uted to the Associate Editors—A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Es match the manuscript with three professionals for review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reviewers with expertise in the subject of the artic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ers among but not limited to the ER Editorial Board and ER manuscript reviewe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view process may require 3 to 6 months, depending on the topic and scope of the wor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on completion of the reviews, the Associate Editor will read the manuscript, consider the recommendations made by the reviewers and submit a summary to the Co-Edito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-Editors review all related commentary and then relay their decision in a formal letter to the author(s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mmon Manuscript El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292400"/>
            <a:ext cx="81532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tra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/Background (Either name can be use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 and Procedure (sometim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ith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s a subhe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 (Sometim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nding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ion (sometim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clusions and Discuss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clusions and Im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e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type of articl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eflection, Empirical, Narrative, Editorial, Theoretical, Other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estigating Early Career Urban Teachers' Perspectives on and Experiences in Professional Develop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nversation of Many Voices: Critiques and Visions of Teacher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 Education and the Outcomes Trap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tegration of Social Justice in Teacher Education: Dimensions of Prospective Teachers’ Opportunities to Lea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ing Community-Oriented Teachers: Reflections from a Multicultural Service-Learning Proje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ome practice activ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title for this artic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this against the Abstract guidelines in the Template hand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e is an example of a properly formatted APA reference—create one for this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can you say about each of the following based on the abstrac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at each abstract.  What “knowledge claims” does each mak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“contribution” does each study mak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Why Manuscripts Fail</a:t>
            </a:r>
            <a:br>
              <a:rPr sz="3600"/>
            </a:br>
            <a:r>
              <a:rPr b="1" lang="en-US" sz="1400" spc="-1" strike="noStrike">
                <a:solidFill>
                  <a:srgbClr val="e5ffff"/>
                </a:solidFill>
                <a:latin typeface="Tahoma"/>
              </a:rPr>
              <a:t>From: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FFECTIVE MEDICAL WRITING</a:t>
            </a:r>
            <a:br>
              <a:rPr sz="1400"/>
            </a:br>
            <a:r>
              <a:rPr b="1" lang="en-US" sz="1400" spc="-1" strike="noStrike">
                <a:solidFill>
                  <a:srgbClr val="e5ffff"/>
                </a:solidFill>
                <a:latin typeface="Tahoma"/>
              </a:rPr>
              <a:t>Michelle Biros, MS, MD</a:t>
            </a:r>
            <a:br>
              <a:rPr sz="14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http://www.saem.org/meetings/05hand/biros.doc</a:t>
            </a:r>
            <a:br>
              <a:rPr sz="14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Technical rea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ticle is not within the journal 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uthors did not follow the instru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lear purpose, poor syntax, extremely verbose, flight of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ical concerns about the study or even the study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est denominator paper,  with a backlog of higher priority wor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or unwilling to revise the manuscript to address reviewer’s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Why Manuscripts Fail</a:t>
            </a:r>
            <a:br>
              <a:rPr sz="3600"/>
            </a:br>
            <a:r>
              <a:rPr b="1" lang="en-US" sz="1400" spc="-1" strike="noStrike">
                <a:solidFill>
                  <a:srgbClr val="e5ffff"/>
                </a:solidFill>
                <a:latin typeface="Tahoma"/>
              </a:rPr>
              <a:t>From: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FFECTIVE MEDICAL WRITING</a:t>
            </a:r>
            <a:br>
              <a:rPr sz="1400"/>
            </a:br>
            <a:r>
              <a:rPr b="1" lang="en-US" sz="1400" spc="-1" strike="noStrike">
                <a:solidFill>
                  <a:srgbClr val="e5ffff"/>
                </a:solidFill>
                <a:latin typeface="Tahoma"/>
              </a:rPr>
              <a:t>Michelle Biros, MS, MD</a:t>
            </a:r>
            <a:br>
              <a:rPr sz="14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http://www.saem.org/meetings/05hand/biros.doc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Cognitive rea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cept is not u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question is triv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obvious serious flaws in the stud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thods are inadequ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sults are not signific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clusions are overstated or can’t be suppo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clusions simply restate the results and/or do not answer the study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Develop an 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conce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-set of 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/information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findings (Knowledge Clai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 (Contribu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oals for the Morn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uss elements of an academic manuscri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etch the typical manuscript review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some general “Do” and “Don’t” ti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e some simple writing skill activi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 an initial outline for writing a manuscri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excuse me if I’m too basic, or not basic en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excuse me if I jump around a b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ask ques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 Writ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19810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96252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53341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59436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51460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12408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60880" y="4495680"/>
            <a:ext cx="60948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8680" y="510552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 Writ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657600"/>
            <a:ext cx="1524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66688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365760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8680" y="322884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 Writ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422440" y="3384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890720"/>
            <a:ext cx="75438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ademic writing serves many purpo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general, it is intended to contribute to a professional community by providing new knowledge, applications and/or perspectives that alter in positive ways how professionals understand their practice and its relationship to others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86704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352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3526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44640" y="38545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8545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431496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8006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318280"/>
            <a:ext cx="14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53053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 Writ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810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98108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352680"/>
            <a:ext cx="60948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396252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3341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59436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514600"/>
            <a:ext cx="60984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12408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640" y="4495680"/>
            <a:ext cx="60984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1800" y="510552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365760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66688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365760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19760" y="322884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ven Steps To Becoming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Good Wri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ri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rite Some Mo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rite A Lot Mo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a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dit Other People’s Draf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ek Input (Editing Group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-wri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657600" y="2057400"/>
            <a:ext cx="17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win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inimum El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conce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-set of 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ipulated 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ding 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fin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33:53Z</dcterms:created>
  <dc:creator>Ed Robeck</dc:creator>
  <dc:description/>
  <dc:language>en-US</dc:language>
  <cp:lastModifiedBy>Ed Robeck</cp:lastModifiedBy>
  <dcterms:modified xsi:type="dcterms:W3CDTF">2008-04-15T23:59:27Z</dcterms:modified>
  <cp:revision>6</cp:revision>
  <dc:subject/>
  <dc:title>Slide 1</dc:title>
</cp:coreProperties>
</file>